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7411-07CD-4C5B-8A73-79BA7E67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6F2E-4CFC-4BD3-8DED-D22E6334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E4F46-65DA-4FA9-AF48-2983337D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0A74A-C838-4F3C-8860-5E4FD462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AD189-CE46-4DF2-8C2C-53049D31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1BCC3-E505-448F-A452-1C7F272E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64D0A-1039-4E96-9A66-29C9889B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4708D-A3FA-497D-A2DD-721B6DB1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50722-17D6-40B6-908D-79579473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4A5F3-F9D9-4ED5-8910-806B8164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9E997-BCF6-4975-85A6-980B5415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70F1-7033-4057-91BC-2F77C86F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9A11-6745-44B5-BA69-E988939C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903D-240F-45DE-A563-F7CBF247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0073-EF3C-4816-8DC6-83356C45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FFF6-843D-4B34-B9B0-8778BAA0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5104-6111-4A6C-8FCF-5CB19C82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9139-8909-4E84-AB1F-16F3AE0F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0562-B9B5-4B8A-ADE9-1C3CF775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E150-4B2D-4405-95FF-0EFC95A5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69CB-8B7B-4AEF-B458-FBA8EA11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BA3A-1EA6-4A51-B785-D2F7E275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EB10-92C3-4B2B-98E7-BA5EB183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7D6E-5FD8-45A8-98C1-FD07EE8D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5460-FA1A-4443-8285-D0A11E8E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3427-703C-4BF1-A01C-C4097A9A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FA679-5B76-4C49-B4D0-B7249EAC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C26F2-F7FF-4B0B-A355-833765FE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04E98-FBEE-4092-99A5-020ECCFF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7BDEF-2CBF-48B2-BF35-865324DC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28A0C-AAF2-4B3B-991F-9B319FEB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611-9A89-438B-B072-7423C1B6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B2F47-F310-4978-98B4-6ED473A7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F8C89-054F-48E7-9125-D178BA73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78613-3E52-42C7-A306-165A667A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59FC3-7E48-4B48-8372-84CB8CD5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1F235-4B83-434E-8F78-2C2BFF48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B89AA-0C28-4D3C-8A2A-30D6A3F2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7625A-BF0C-4033-B61F-24528879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5685B-0964-41A9-BB24-66EEDD05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156E5-B2DD-4744-967F-1F2FFDC1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A69CB-4856-4406-B64B-373DD73B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DD9-82C3-45D2-B9AC-9338C485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9338E-FD05-4909-B9ED-13CB605C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649F4-123A-4B51-933D-BC17FE88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EAD6C-F759-4BA4-A04C-185CFE96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8F18B-9096-4F5F-A8AC-B175FC20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A3309-1837-4C3E-95B1-A2906112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437A5-92F8-4C21-8BEA-E9979F4C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756E7-A7C0-41C6-9E9A-7114BDD1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197C1-4840-403E-98B4-7DBC5FA1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C8154-06BA-4E45-8D0E-A5B2B592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C1A13-C422-45AA-A6CD-1604BFD4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E31-97CC-4F11-9948-A68EA563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23502-EE56-4BB5-B2D4-974112DE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A8C52-E864-4D6B-AC58-A8E7A214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AC529-E9CC-4134-BCFA-3581A3BC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56B3F-645D-4280-9CEE-DFF7585E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B1969-CDE9-4CC1-B639-429A9F16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89CE5-764B-4AC0-ADAE-884DE283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431C9-E383-40C2-B09E-0C7847AE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433DB-2120-4FD2-A8FC-15059AA8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F30CF-E165-499E-8959-A81C219E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C1C9E-17E9-4184-B8BD-706D7821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FE2-BB1F-4CA5-8743-D450FC61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C6AEF-C076-4301-BE31-B1F11A74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41303-8607-4F9B-AC1B-A956A490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B38FD-4093-4467-A5BA-715510A3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47591-671D-4E4F-826A-41EA6E03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F2B63-6FDC-4FD5-82DA-6BFE9FFF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2CB9F-995D-43EF-A88B-07917E22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05B41-D4D3-4D1A-A1DE-7A91D43E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86F27-F550-4C81-823E-8776A043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5D742-977D-4A6E-8A15-96DA4FAE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6699F-4283-413D-AE6D-717378D3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F4EC-5E31-402F-8995-A4CE5499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E405D-1722-4E95-AF3E-5EBA5F1E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6C4CE-B883-4B21-ADB2-53CAD560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594D1-76BE-4E67-B398-8DB35362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90488-D532-4EF5-88C5-26C8FBC7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09D5C-F88D-4D45-8E5B-55966253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96FF2-78ED-4A94-AC68-17502708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DA5CE-A65D-49AD-BE16-458E2F98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A6569-E12E-4AF7-B730-642922FD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D4E0F-9311-49C3-87F7-F2D2A541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7A1B2-62BF-46C0-90C3-BFC83608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543-3A33-4ED6-A4AF-064EDB53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00CEE-5630-4AB6-90AD-6B5BCE87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21F53-CB89-4444-8E13-493EDBF2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3DB20-0D99-4218-85A4-4DFBAF3B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99136-9E4E-4C9B-83DB-C6961389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555C3-C857-4772-B6EA-1023D098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27D53-A3AF-4081-AD41-ED8C2E7F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F3A51-8091-4881-A3F1-872C280B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43A76-1196-4A0F-A79A-FB60B08D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2EF6B-6805-4F69-BC55-38D5F374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5D510-1AC2-467F-97EA-1488EB00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CCF-10EF-4643-B910-A8C2A4B8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C4ABD-A6D3-43D0-A7D8-209464DC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737D7-CA2A-4E0D-8470-DC644302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1A4E6-2330-41B5-8487-25231C37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A1216-0577-47D2-9E34-9C56E53D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6940C-7A61-490B-9590-18F54EE4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2D8CA-C485-48E4-92B9-5C5F11D5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CB09B-8806-436C-86AA-ED4182CE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16EA6-FB8E-45DA-901B-5C5EA8EC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79749-EE49-442E-86E8-E997D9D7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0F90D-C416-48EC-8EC8-E05E1F1B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9262-0F5F-429F-8C0D-F5FA916B224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5199-1B35-46E6-A316-D17CBBAD53A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1E38-59E2-4036-9A91-023D7521EE9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064A-AA58-4256-835F-510199992EA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CE35-929E-491C-9806-54923AF57BB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FC32-FBC4-4DF3-9748-C5BE2397E2D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6267-82A9-47DE-9004-302993CDA68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73B7-F790-4ADE-9314-9255A708EB7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23AB-3091-4354-BF4F-A5473B38EA3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237960" y="615960"/>
            <a:ext cx="8552160" cy="29322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714400" y="4571640"/>
            <a:ext cx="505764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льских Надежда Аркадьевна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Рябининская СОШ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дынского район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C:\Documents and Settings\Admin\Рабочий стол\Pelica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642960"/>
          <a:ext cx="9144000" cy="5357880"/>
        </p:xfrm>
        <a:graphic>
          <a:graphicData uri="http://schemas.openxmlformats.org/drawingml/2006/table">
            <a:tbl>
              <a:tblPr/>
              <a:tblGrid>
                <a:gridCol w="958680"/>
                <a:gridCol w="479520"/>
                <a:gridCol w="480960"/>
                <a:gridCol w="479520"/>
                <a:gridCol w="479520"/>
                <a:gridCol w="523800"/>
                <a:gridCol w="480960"/>
                <a:gridCol w="479520"/>
                <a:gridCol w="479520"/>
                <a:gridCol w="479160"/>
                <a:gridCol w="479520"/>
                <a:gridCol w="465120"/>
                <a:gridCol w="479520"/>
                <a:gridCol w="479520"/>
                <a:gridCol w="480960"/>
                <a:gridCol w="479520"/>
                <a:gridCol w="958680"/>
              </a:tblGrid>
              <a:tr h="377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0" y="714240"/>
          <a:ext cx="9144000" cy="5286600"/>
        </p:xfrm>
        <a:graphic>
          <a:graphicData uri="http://schemas.openxmlformats.org/drawingml/2006/table">
            <a:tbl>
              <a:tblPr/>
              <a:tblGrid>
                <a:gridCol w="958680"/>
                <a:gridCol w="479520"/>
                <a:gridCol w="480960"/>
                <a:gridCol w="479520"/>
                <a:gridCol w="479520"/>
                <a:gridCol w="523800"/>
                <a:gridCol w="480960"/>
                <a:gridCol w="479520"/>
                <a:gridCol w="479520"/>
                <a:gridCol w="479160"/>
                <a:gridCol w="479520"/>
                <a:gridCol w="465120"/>
                <a:gridCol w="479520"/>
                <a:gridCol w="479520"/>
                <a:gridCol w="480960"/>
                <a:gridCol w="479520"/>
                <a:gridCol w="958680"/>
              </a:tblGrid>
              <a:tr h="37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285880" y="213840"/>
            <a:ext cx="37148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ликан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ина – 1,8 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змах крыльев – до 3 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ес – до 14 к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мешная птица пеликан!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н грузный, неуклюжий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ромадный клюв как ятаган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 зоб - тугой как барабан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битый впрок на ужин..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.Асад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Picture 2" descr="C:\Documents and Settings\Admin\Рабочий стол\паустовский\рис1.bmp"/>
          <p:cNvPicPr/>
          <p:nvPr/>
        </p:nvPicPr>
        <p:blipFill>
          <a:blip r:embed="rId2"/>
          <a:stretch/>
        </p:blipFill>
        <p:spPr>
          <a:xfrm>
            <a:off x="0" y="0"/>
            <a:ext cx="519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714560" y="0"/>
            <a:ext cx="442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Я не знаю ничего более близкого мне, чем наши простые русские люди, и ничего более прекрасного, чем наша земля»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.Паустовски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C:\Documents and Settings\Admin\Рабочий стол\паустовский\портрет Пауст.jpg"/>
          <p:cNvPicPr/>
          <p:nvPr/>
        </p:nvPicPr>
        <p:blipFill>
          <a:blip r:embed="rId2"/>
          <a:stretch/>
        </p:blipFill>
        <p:spPr>
          <a:xfrm>
            <a:off x="-101520" y="0"/>
            <a:ext cx="48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****</cp:lastModifiedBy>
  <dcterms:modified xsi:type="dcterms:W3CDTF">2012-01-27T05:06:24Z</dcterms:modified>
  <cp:revision>16</cp:revision>
  <dc:subject/>
  <dc:title>Слайд 1</dc:title>
</cp:coreProperties>
</file>